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4.jpeg" ContentType="image/jpeg"/>
  <Override PartName="/ppt/media/image31.jpeg" ContentType="image/jpeg"/>
  <Override PartName="/ppt/media/image2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9.png" ContentType="image/png"/>
  <Override PartName="/ppt/media/image32.wmf" ContentType="image/x-wmf"/>
  <Override PartName="/ppt/media/image28.png" ContentType="image/png"/>
  <Override PartName="/ppt/media/image5.png" ContentType="image/png"/>
  <Override PartName="/ppt/media/image8.jpeg" ContentType="image/jpeg"/>
  <Override PartName="/ppt/media/image9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C163-C570-4E22-8CEC-48FE91751EAB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E185-03F3-4250-B5B9-0CB22418900B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59A8-11AF-42D1-8F15-888006472573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6D19-D8DB-4AA7-976B-57AE66F6AC5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A3E8-6073-4776-9B64-FEBD0F0594E7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CCA9-3D6E-4128-96CF-7D42DB65A07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pitulo 1 libro Davis- Ol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BBB4-F8E8-48AA-97A2-F4B19CC3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426E-3BF8-4FA6-8E19-CED5F119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A50-8508-466E-8FA7-29CCA819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BA5-B54D-49CC-B3A6-607F8A1E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E611-265F-452D-9B4F-5051AA23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E59C-6B56-466B-B733-5A7A0F7B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4944-6D9F-4FA8-9CA5-65886BEF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C6F8-51B9-4B9B-A272-A45B4D54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04C0-F9A0-4FEF-A4BB-032C26FE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9D44-83FA-4A6D-9A13-33411A5C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0EAD-7501-4193-8E39-6474147F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A85-E85B-4619-9F92-ADFA2323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E043-9B45-45D9-A28A-8CE1C398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2E4E-7B77-4508-91C6-A7A8696C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D665-A971-43BB-ABDD-057076B0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CBE6-46A8-4337-A554-EFE93B0F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BB20-5DA7-4252-AC82-6585D1B6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70D9-4AAB-44E4-A979-91F4DAE6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2EB-76C0-441D-9128-4E68B217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9A7E-DFD4-4749-8629-FC9536EA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7A28-62DC-4FA6-AFD1-D16C4949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0838-A38F-40CD-AD75-E7AB35E2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5AF-479D-4D92-B262-5C1981D6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6123-4E66-4799-988D-DE27A30B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8348-8A6A-41D3-94FE-5BA90A58ADFB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D46A-F7B6-42C0-9AB2-8084121EF67A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B733-40FE-4D1E-A486-36AB6DD4AD8B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F0F4-0238-47A0-81F3-C0B518C7966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4292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Co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Comisión organizadora: Problemática de los profesionales que actúan en la actividad docente</a:t>
            </a:r>
            <a:br>
              <a:rPr sz="1800"/>
            </a:b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AR" sz="1800" spc="-1" strike="noStrike">
                <a:solidFill>
                  <a:srgbClr val="000000"/>
                </a:solidFill>
                <a:latin typeface="Calibri"/>
              </a:rPr>
              <a:t>Actualización pedagógica y disciplinar para docentes </a:t>
            </a:r>
            <a:br>
              <a:rPr sz="1800"/>
            </a:br>
            <a:br>
              <a:rPr sz="2200"/>
            </a:br>
            <a:r>
              <a:rPr b="1" lang="es-AR" sz="4800" spc="-1" strike="noStrike">
                <a:solidFill>
                  <a:srgbClr val="000000"/>
                </a:solidFill>
                <a:latin typeface="Comic Sans MS"/>
              </a:rPr>
              <a:t>"Fundamentos básicos de contabilidad gerencial </a:t>
            </a:r>
            <a:br>
              <a:rPr sz="4800"/>
            </a:br>
            <a:r>
              <a:rPr b="1" lang="es-AR" sz="4800" spc="-1" strike="noStrike">
                <a:solidFill>
                  <a:srgbClr val="000000"/>
                </a:solidFill>
                <a:latin typeface="Comic Sans MS"/>
              </a:rPr>
              <a:t>en el nivel medio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-360" y="4292280"/>
            <a:ext cx="9906120" cy="30718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Exposito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Dra. Graciela Paris - Dra. Liliana Sosis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CABA- 30 de agosto de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521000" y="333360"/>
            <a:ext cx="53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logohome_bicentenario"/>
          <p:cNvPicPr/>
          <p:nvPr/>
        </p:nvPicPr>
        <p:blipFill>
          <a:blip r:embed="rId4"/>
          <a:stretch/>
        </p:blipFill>
        <p:spPr>
          <a:xfrm>
            <a:off x="0" y="0"/>
            <a:ext cx="9906120" cy="95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9580-0545-49CE-8A84-AEA7BF95D1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95000" y="404640"/>
            <a:ext cx="94107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Además son usuarios externos, entre ot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s-AR" sz="2800" spc="-1" strike="noStrike">
                <a:solidFill>
                  <a:srgbClr val="000000"/>
                </a:solidFill>
                <a:latin typeface="Comic Sans MS"/>
              </a:rPr>
              <a:t>Organismos público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s-AR" sz="2800" spc="-1" strike="noStrike">
                <a:solidFill>
                  <a:srgbClr val="000000"/>
                </a:solidFill>
                <a:latin typeface="Comic Sans MS"/>
              </a:rPr>
              <a:t>Público en general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s-AR" sz="2800" spc="-1" strike="noStrike">
                <a:solidFill>
                  <a:srgbClr val="000000"/>
                </a:solidFill>
                <a:latin typeface="Comic Sans MS"/>
              </a:rPr>
              <a:t>Seguridad Social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AR" sz="2800" spc="-1" strike="noStrike">
                <a:solidFill>
                  <a:srgbClr val="000000"/>
                </a:solidFill>
                <a:latin typeface="Comic Sans MS"/>
              </a:rPr>
              <a:t>Gremiales Empresari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6826320" y="2708280"/>
            <a:ext cx="2671560" cy="184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DD1E-585C-43B5-A2A2-216A42100D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93600" y="378000"/>
            <a:ext cx="981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Concepto de Contabil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0" y="1104840"/>
            <a:ext cx="990612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Disciplina que, a partir del procesamiento de datos sob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a composición y evolución del patrimonio de un en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os bienes de propiedad de terceros en su poder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iertas continge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produce información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La toma de decisiones de administradores y terceros interesados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La vigilancia sobre los recursos y obligaciones de dicho 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5734080" y="3386160"/>
            <a:ext cx="2452680" cy="133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6D5-17D5-4FB9-92FF-62044B566BC6}" type="slidenum">
              <a:t>11</a:t>
            </a:fld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94773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contabilidad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egún sus objetivos y la naturaleza de sus ent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7600" y="90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mic Sans MS"/>
              </a:rPr>
              <a:t>Contabilidad patrimonial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mic Sans MS"/>
              </a:rPr>
              <a:t>Contabilidad de gestión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mic Sans MS"/>
              </a:rPr>
              <a:t>Contabilidad social y ambien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mic Sans MS"/>
              </a:rPr>
              <a:t>Contabilidad gubernamen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Comic Sans MS"/>
              </a:rPr>
              <a:t>Contabilidad Económica (o Nacio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esq_010"/>
          <p:cNvPicPr/>
          <p:nvPr/>
        </p:nvPicPr>
        <p:blipFill>
          <a:blip r:embed="rId2"/>
          <a:stretch/>
        </p:blipFill>
        <p:spPr>
          <a:xfrm>
            <a:off x="6045120" y="4292640"/>
            <a:ext cx="1943280" cy="114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image1"/>
          <p:cNvPicPr/>
          <p:nvPr/>
        </p:nvPicPr>
        <p:blipFill>
          <a:blip r:embed="rId3"/>
          <a:stretch/>
        </p:blipFill>
        <p:spPr>
          <a:xfrm>
            <a:off x="4875120" y="1844640"/>
            <a:ext cx="2405160" cy="1181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logo_ci"/>
          <p:cNvPicPr/>
          <p:nvPr/>
        </p:nvPicPr>
        <p:blipFill>
          <a:blip r:embed="rId4"/>
          <a:stretch/>
        </p:blipFill>
        <p:spPr>
          <a:xfrm>
            <a:off x="5811840" y="321300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balance%20general"/>
          <p:cNvPicPr/>
          <p:nvPr/>
        </p:nvPicPr>
        <p:blipFill>
          <a:blip r:embed="rId5"/>
          <a:stretch/>
        </p:blipFill>
        <p:spPr>
          <a:xfrm>
            <a:off x="7839000" y="836640"/>
            <a:ext cx="1195560" cy="1428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"/>
          <p:cNvPicPr/>
          <p:nvPr/>
        </p:nvPicPr>
        <p:blipFill>
          <a:blip r:embed="rId6"/>
          <a:stretch/>
        </p:blipFill>
        <p:spPr>
          <a:xfrm>
            <a:off x="7137360" y="5589720"/>
            <a:ext cx="168264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A1AB-8C0A-432B-ACBE-F7C0726798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0" y="40464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a contabilidad según sus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563400" y="2556000"/>
            <a:ext cx="93427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4762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33360" y="1152360"/>
            <a:ext cx="923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25520" y="1200240"/>
            <a:ext cx="879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4811760" y="1246320"/>
            <a:ext cx="0" cy="515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19240" y="1270080"/>
            <a:ext cx="4179600" cy="54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Contabilidad Patrimon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Destinada a usuarios internos y externos de l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Debe cumplir con Normas Legales y Normas profesionales Con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Obligatoriamente están sujetas a Auditoría Ex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Emite los Estados Contables Bás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4940280" y="1330200"/>
            <a:ext cx="4592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4991040" y="1258920"/>
            <a:ext cx="4529160" cy="55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Contabilidad de Ges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Destinada a usuarios internos de l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Debido a que están destinadas para uso interno, no necesariamente debe cumplir con Normas Legales y profesionales Contables. Pero si a nomas contables inter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No es obligatoria la Auditoría Ex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Emite informes de gest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550-E16D-4685-BB5A-1662219853E3}" type="slidenum">
              <a:t>13</a:t>
            </a:fld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4 Rectángulo"/>
          <p:cNvSpPr/>
          <p:nvPr/>
        </p:nvSpPr>
        <p:spPr>
          <a:xfrm>
            <a:off x="0" y="5589720"/>
            <a:ext cx="9906120" cy="12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Impactos –positivos o negativos-              efectos externos o           </a:t>
            </a: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extern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1080" y="260280"/>
            <a:ext cx="9634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Todas las actividades en menor o mayor grado, producen impactos sobre el medio 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5" name="6 Conector recto de flecha"/>
          <p:cNvCxnSpPr/>
          <p:nvPr/>
        </p:nvCxnSpPr>
        <p:spPr>
          <a:xfrm>
            <a:off x="4716360" y="6093000"/>
            <a:ext cx="1008720" cy="216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1209600" y="4292640"/>
            <a:ext cx="1909800" cy="1317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"/>
          <p:cNvPicPr/>
          <p:nvPr/>
        </p:nvPicPr>
        <p:blipFill>
          <a:blip r:embed="rId3"/>
          <a:stretch/>
        </p:blipFill>
        <p:spPr>
          <a:xfrm>
            <a:off x="4952880" y="1197000"/>
            <a:ext cx="2090880" cy="1808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4"/>
          <a:stretch/>
        </p:blipFill>
        <p:spPr>
          <a:xfrm rot="20940000">
            <a:off x="134640" y="2790720"/>
            <a:ext cx="1906560" cy="1470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5"/>
          <a:stretch/>
        </p:blipFill>
        <p:spPr>
          <a:xfrm rot="20962800">
            <a:off x="390240" y="1244520"/>
            <a:ext cx="2398680" cy="1386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6"/>
          <a:stretch/>
        </p:blipFill>
        <p:spPr>
          <a:xfrm rot="21372600">
            <a:off x="6100920" y="2905200"/>
            <a:ext cx="1663560" cy="1606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"/>
          <p:cNvPicPr/>
          <p:nvPr/>
        </p:nvPicPr>
        <p:blipFill>
          <a:blip r:embed="rId7"/>
          <a:stretch/>
        </p:blipFill>
        <p:spPr>
          <a:xfrm>
            <a:off x="7994520" y="2924280"/>
            <a:ext cx="1640160" cy="1506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"/>
          <p:cNvPicPr/>
          <p:nvPr/>
        </p:nvPicPr>
        <p:blipFill>
          <a:blip r:embed="rId8"/>
          <a:stretch/>
        </p:blipFill>
        <p:spPr>
          <a:xfrm>
            <a:off x="2066760" y="2997360"/>
            <a:ext cx="1951200" cy="1614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"/>
          <p:cNvPicPr/>
          <p:nvPr/>
        </p:nvPicPr>
        <p:blipFill>
          <a:blip r:embed="rId9"/>
          <a:stretch/>
        </p:blipFill>
        <p:spPr>
          <a:xfrm rot="20854200">
            <a:off x="2560680" y="1288800"/>
            <a:ext cx="1866960" cy="1749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"/>
          <p:cNvPicPr/>
          <p:nvPr/>
        </p:nvPicPr>
        <p:blipFill>
          <a:blip r:embed="rId10"/>
          <a:stretch/>
        </p:blipFill>
        <p:spPr>
          <a:xfrm rot="691800">
            <a:off x="7117920" y="1378080"/>
            <a:ext cx="2127240" cy="1471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"/>
          <p:cNvPicPr/>
          <p:nvPr/>
        </p:nvPicPr>
        <p:blipFill>
          <a:blip r:embed="rId11"/>
          <a:stretch/>
        </p:blipFill>
        <p:spPr>
          <a:xfrm rot="900600">
            <a:off x="7915320" y="4513320"/>
            <a:ext cx="1423800" cy="1268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"/>
          <p:cNvPicPr/>
          <p:nvPr/>
        </p:nvPicPr>
        <p:blipFill>
          <a:blip r:embed="rId12"/>
          <a:stretch/>
        </p:blipFill>
        <p:spPr>
          <a:xfrm>
            <a:off x="5438880" y="4508640"/>
            <a:ext cx="1620720" cy="1236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"/>
          <p:cNvPicPr/>
          <p:nvPr/>
        </p:nvPicPr>
        <p:blipFill>
          <a:blip r:embed="rId13"/>
          <a:stretch/>
        </p:blipFill>
        <p:spPr>
          <a:xfrm rot="21111000">
            <a:off x="3605040" y="4498560"/>
            <a:ext cx="1552680" cy="1182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"/>
          <p:cNvPicPr/>
          <p:nvPr/>
        </p:nvPicPr>
        <p:blipFill>
          <a:blip r:embed="rId14"/>
          <a:stretch/>
        </p:blipFill>
        <p:spPr>
          <a:xfrm>
            <a:off x="4172040" y="2924280"/>
            <a:ext cx="18939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6E1-31E7-458F-9BAE-A9961FE7C9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-360" y="259920"/>
            <a:ext cx="99061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i="1" lang="es-AR" sz="3200" spc="-1" strike="noStrike">
                <a:solidFill>
                  <a:srgbClr val="000000"/>
                </a:solidFill>
                <a:latin typeface="Comic Sans MS"/>
              </a:rPr>
              <a:t>determinación de las externalidades</a:t>
            </a: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más aún cuando ellas son internalizad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favore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s-AR" sz="3200" spc="-1" strike="noStrike">
                <a:solidFill>
                  <a:srgbClr val="000000"/>
                </a:solidFill>
                <a:latin typeface="Comic Sans MS"/>
              </a:rPr>
              <a:t>la incorporación de la dimensión ambiental </a:t>
            </a: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1" i="1" lang="es-AR" sz="3200" spc="-1" strike="noStrike">
                <a:solidFill>
                  <a:srgbClr val="000000"/>
                </a:solidFill>
                <a:latin typeface="Comic Sans MS"/>
              </a:rPr>
              <a:t>proceso de decis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2378160" y="4005360"/>
            <a:ext cx="2574720" cy="2219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3"/>
          <a:stretch/>
        </p:blipFill>
        <p:spPr>
          <a:xfrm>
            <a:off x="5576760" y="4005360"/>
            <a:ext cx="3140280" cy="231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005-3D9E-4355-81ED-063B2B0082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5 Rectángulo"/>
          <p:cNvSpPr/>
          <p:nvPr/>
        </p:nvSpPr>
        <p:spPr>
          <a:xfrm>
            <a:off x="662040" y="1197000"/>
            <a:ext cx="8502480" cy="503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Rectángulo"/>
          <p:cNvSpPr/>
          <p:nvPr/>
        </p:nvSpPr>
        <p:spPr>
          <a:xfrm>
            <a:off x="741240" y="2708280"/>
            <a:ext cx="8423280" cy="136836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95000" y="692280"/>
            <a:ext cx="8915400" cy="54338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La evolución alcanzada por la responsabilidad social organizacional nos hace recapacitar sobre la importancia que ti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la contabilidad  en la comunicación de información social y ambiental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507960" y="4149720"/>
            <a:ext cx="2146320" cy="2305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3"/>
          <a:stretch/>
        </p:blipFill>
        <p:spPr>
          <a:xfrm>
            <a:off x="7215120" y="4292640"/>
            <a:ext cx="2320920" cy="21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C886-BCC3-453B-AAA7-6417C66114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662040" y="2349360"/>
            <a:ext cx="8659800" cy="381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Contabilidad Soci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50640" y="1844640"/>
            <a:ext cx="920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e puede conceptualizar co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l segmento de la contabilidad que se ocupa de suministrar información referida a aquellos aspectos sociales sobre los que puede impactar la actividad de la empres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como por ejemplo cuestiones relativas a sus empleados, la comunidad social, el medio ambi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6" descr="la-responsabilidad-social-va-al-alza-en-las-empresas-mexicanas-especial"/>
          <p:cNvPicPr/>
          <p:nvPr/>
        </p:nvPicPr>
        <p:blipFill>
          <a:blip r:embed="rId2"/>
          <a:stretch/>
        </p:blipFill>
        <p:spPr>
          <a:xfrm>
            <a:off x="271440" y="404640"/>
            <a:ext cx="1873440" cy="11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52B-9A8F-409A-B322-EE91ECCB81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507960" y="1341360"/>
            <a:ext cx="9126720" cy="1511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Contabilidad Ambient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99061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se ocupa de medir, analizar, registrar y comunicar los efectos económicos de los hechos que impactan el ambien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Cuando se orienta hacia la generación de información para toma de decisiones interna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e conoce como </a:t>
            </a: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contabilidad de gestión ambiental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Secretaría de </a:t>
            </a: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Ambiente y desarrollo Sustentable</a:t>
            </a: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omic Sans MS"/>
              </a:rPr>
              <a:t>Para algunos autores está incluida dentro de la denominada Contabilidad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507960" y="1268280"/>
            <a:ext cx="912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Estrategias-21-09-06"/>
          <p:cNvPicPr/>
          <p:nvPr/>
        </p:nvPicPr>
        <p:blipFill>
          <a:blip r:embed="rId2"/>
          <a:stretch/>
        </p:blipFill>
        <p:spPr>
          <a:xfrm>
            <a:off x="338040" y="115920"/>
            <a:ext cx="1168560" cy="115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FC48-CD04-4803-8E6F-FB9821722D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99061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Comic Sans MS"/>
              </a:rPr>
              <a:t>Paradigma actual de la Contabilid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990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pasó de la idea cent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 la determinación del resultado periódico en las empresas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A la de la utilidad de la información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por e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se incluye en los estados contab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información adicional que permite visualizar una imagen más integral de la organización</a:t>
            </a:r>
            <a:r>
              <a:rPr b="0" i="1" lang="es-E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95288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912C-C752-4D83-AA25-3529FFE186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s-AR" sz="4800" spc="-1" strike="noStrike">
                <a:solidFill>
                  <a:srgbClr val="000000"/>
                </a:solidFill>
                <a:latin typeface="Comic Sans MS"/>
              </a:rPr>
              <a:t>bjetivo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1600200"/>
            <a:ext cx="9906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AR" sz="3600" spc="-1" strike="noStrike">
                <a:solidFill>
                  <a:srgbClr val="000000"/>
                </a:solidFill>
                <a:latin typeface="Comic Sans MS"/>
              </a:rPr>
              <a:t>Actualizar a los participantes sobre contenidos didácticos y disciplinares específicos.    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AR" sz="3600" spc="-1" strike="noStrike">
                <a:solidFill>
                  <a:srgbClr val="000000"/>
                </a:solidFill>
                <a:latin typeface="Comic Sans MS"/>
              </a:rPr>
              <a:t>Generar espacios de reflexión entre los distintos participantes sobre la importancia de la enseñanza integral de la Contabilidad en la educación media</a:t>
            </a:r>
            <a:r>
              <a:rPr b="1" lang="es-AR" sz="3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A193-5468-42D5-9E32-F748F352A2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Tipos de informes con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30120" y="1341360"/>
            <a:ext cx="924552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atrimoniales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presentan la situación económica, financiera y patrimonial del ente.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 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stados contables básicos-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 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stados complementarios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-Información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complemen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De Gestión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complementan y refuerzan la información patrimonial, ayudando a los distintos niveles jerárquicos a detectar las causas de las desviaciones y poder corregirlas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Presupuestos - estados contables proyec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Análisis e  interpretación de estados con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Otros   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Especiales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responden al pedido de los distintos usuarios para ampliar lo contenido en los estados con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35E-F7E0-4D2E-9D48-BC87968226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omic Sans MS"/>
              </a:rPr>
              <a:t>Características de la información contabl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0" y="1484280"/>
            <a:ext cx="9906120" cy="43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ormes Patrimoniales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Informes de 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f497d"/>
                </a:solidFill>
                <a:latin typeface="Tahoma"/>
              </a:rPr>
              <a:t>                                    </a:t>
            </a:r>
            <a:r>
              <a:rPr b="1" lang="es-ES" sz="1800" spc="-1" strike="noStrike">
                <a:solidFill>
                  <a:srgbClr val="1f497d"/>
                </a:solidFill>
                <a:latin typeface="Tahoma"/>
              </a:rPr>
              <a:t>Estados Contables                       Costos y Presupuestos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onfección: 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Global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Detal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Periódica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Cuando se necesita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ormal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No form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basados en normas cont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Destinatarios: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     I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nternos y externos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In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f497d"/>
                </a:solidFill>
                <a:latin typeface="Tahoma"/>
              </a:rPr>
              <a:t>Orientada a:                 Inversionistas             Control administrativo (gere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f497d"/>
                </a:solidFill>
                <a:latin typeface="Tahoma"/>
              </a:rPr>
              <a:t>Decisiones                   Administrativas</a:t>
            </a:r>
            <a:r>
              <a:rPr b="1" lang="es-ES" sz="1800" spc="-1" strike="noStrike">
                <a:solidFill>
                  <a:srgbClr val="1f497d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1f497d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1f497d"/>
                </a:solidFill>
                <a:latin typeface="Tahoma"/>
              </a:rPr>
              <a:t> Geren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FEF-7566-4644-B905-1C51A6944C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3600"/>
            </a:br>
            <a:r>
              <a:rPr b="1" lang="es-AR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AR" sz="3600" spc="-1" strike="noStrike">
                <a:solidFill>
                  <a:srgbClr val="000000"/>
                </a:solidFill>
                <a:latin typeface="Comic Sans MS"/>
              </a:rPr>
              <a:t>Información contable   prospec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1052280"/>
            <a:ext cx="8915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Surge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Respuesta 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distintos cambios 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escen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bería permitir acotar incertidumbres 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isminuir los riesgos ante las variaciones constantes del entor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4795920" y="1700280"/>
            <a:ext cx="234720" cy="865080"/>
          </a:xfrm>
          <a:prstGeom prst="downArrow">
            <a:avLst>
              <a:gd name="adj1" fmla="val 50000"/>
              <a:gd name="adj2" fmla="val 9214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F76-2343-4860-9637-895F369B2B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omic Sans MS"/>
              </a:rPr>
              <a:t>La  información prospectiva</a:t>
            </a: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9906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intern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Es útil para usu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externos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ara su preparación es indispensable considerar el planeamien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stratégic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táctico            de la organiz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perativo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Line 4"/>
          <p:cNvSpPr/>
          <p:nvPr/>
        </p:nvSpPr>
        <p:spPr>
          <a:xfrm flipV="1">
            <a:off x="5186520" y="1915920"/>
            <a:ext cx="62532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>
            <a:off x="5186520" y="2708280"/>
            <a:ext cx="62532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5030640" y="5445000"/>
            <a:ext cx="6238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4406760" y="5877000"/>
            <a:ext cx="101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 flipV="1">
            <a:off x="4875120" y="6021000"/>
            <a:ext cx="70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F843-2D3E-4865-A7E0-5934B30ABD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omic Sans MS"/>
              </a:rPr>
              <a:t>Estados Contables Proyectados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990612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Estado de Situación Patrimonial Proyect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Estado de Resultados Proyect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Estado de Cambios en la Posición Financiera Proyect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fijar políticas y objetiv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elemento de juicio        pronosticar resultad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para                       predecir la situación patrimon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y financiera que se espe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logr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A través del tiempo, con su comparación con los estados contables históricos de cada período, se podrá determinar si las metas se cumplieron o no, y las razones que provocaron el no cumpl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3860640" y="2708280"/>
            <a:ext cx="312840" cy="2089080"/>
          </a:xfrm>
          <a:custGeom>
            <a:avLst/>
            <a:gdLst>
              <a:gd name="textAreaLeft" fmla="*/ 199800 w 312840"/>
              <a:gd name="textAreaRight" fmla="*/ 313200 w 31284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81F-CE0D-44BF-B297-391A6EDD2E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2806560" y="609480"/>
            <a:ext cx="4292640" cy="685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¿QUE ES MED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PE02716_"/>
          <p:cNvPicPr/>
          <p:nvPr/>
        </p:nvPicPr>
        <p:blipFill>
          <a:blip r:embed="rId2"/>
          <a:stretch/>
        </p:blipFill>
        <p:spPr>
          <a:xfrm>
            <a:off x="825480" y="2362320"/>
            <a:ext cx="1973160" cy="17175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2971800" y="292428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RMO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 flipV="1">
            <a:off x="428760" y="1052640"/>
            <a:ext cx="8815320" cy="508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438960" y="2819520"/>
            <a:ext cx="22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DI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3797280" y="4038480"/>
            <a:ext cx="610884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STEMA DE REFERENCIA–PA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CALA CENTIG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507960" y="4221000"/>
            <a:ext cx="19810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5778360" y="4952880"/>
            <a:ext cx="288936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FORM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330120" y="1628640"/>
            <a:ext cx="23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OM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3054240" y="1628640"/>
            <a:ext cx="28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RU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2"/>
          <p:cNvSpPr/>
          <p:nvPr/>
        </p:nvSpPr>
        <p:spPr>
          <a:xfrm>
            <a:off x="3938760" y="2133720"/>
            <a:ext cx="330120" cy="761760"/>
          </a:xfrm>
          <a:prstGeom prst="downArrow">
            <a:avLst>
              <a:gd name="adj1" fmla="val 50000"/>
              <a:gd name="adj2" fmla="val 5768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3"/>
          <p:cNvSpPr/>
          <p:nvPr/>
        </p:nvSpPr>
        <p:spPr>
          <a:xfrm>
            <a:off x="6934320" y="3276720"/>
            <a:ext cx="247680" cy="685800"/>
          </a:xfrm>
          <a:prstGeom prst="downArrow">
            <a:avLst>
              <a:gd name="adj1" fmla="val 50000"/>
              <a:gd name="adj2" fmla="val 6922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3860640" y="6019920"/>
            <a:ext cx="57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.: temperatura corporal 37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5"/>
          <p:cNvSpPr/>
          <p:nvPr/>
        </p:nvSpPr>
        <p:spPr>
          <a:xfrm>
            <a:off x="6851520" y="5486400"/>
            <a:ext cx="247680" cy="533520"/>
          </a:xfrm>
          <a:prstGeom prst="downArrow">
            <a:avLst>
              <a:gd name="adj1" fmla="val 50000"/>
              <a:gd name="adj2" fmla="val 5385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B65-8CB9-4073-81F0-6DEB3CC78E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660240" y="228600"/>
            <a:ext cx="8832960" cy="533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L SISTEMA CONTABLE DE 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4024440" y="23623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 rot="10791600">
            <a:off x="430920" y="1272600"/>
            <a:ext cx="3467160" cy="3051000"/>
          </a:xfrm>
          <a:prstGeom prst="leftArrowCallout">
            <a:avLst>
              <a:gd name="adj1" fmla="val 25002"/>
              <a:gd name="adj2" fmla="val 25000"/>
              <a:gd name="adj3" fmla="val 18940"/>
              <a:gd name="adj4" fmla="val 71956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507960" y="1916280"/>
            <a:ext cx="2417760" cy="14724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NDICADORES FI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CTUACON A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 rot="21584400">
            <a:off x="6191280" y="1066680"/>
            <a:ext cx="3467160" cy="3048120"/>
          </a:xfrm>
          <a:prstGeom prst="leftArrowCallout">
            <a:avLst>
              <a:gd name="adj1" fmla="val 25002"/>
              <a:gd name="adj2" fmla="val 25000"/>
              <a:gd name="adj3" fmla="val 18958"/>
              <a:gd name="adj4" fmla="val 71956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7182000" y="1052640"/>
            <a:ext cx="2530440" cy="27046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NDICADORES NO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CTUACION A LARG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ONTROL ESTRATE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8"/>
          <p:cNvGrpSpPr/>
          <p:nvPr/>
        </p:nvGrpSpPr>
        <p:grpSpPr>
          <a:xfrm>
            <a:off x="3549600" y="3124080"/>
            <a:ext cx="2889360" cy="3047760"/>
            <a:chOff x="3549600" y="3124080"/>
            <a:chExt cx="2889360" cy="3047760"/>
          </a:xfrm>
        </p:grpSpPr>
        <p:sp>
          <p:nvSpPr>
            <p:cNvPr id="237" name="AutoShape 9"/>
            <p:cNvSpPr/>
            <p:nvPr/>
          </p:nvSpPr>
          <p:spPr>
            <a:xfrm>
              <a:off x="3549600" y="3124080"/>
              <a:ext cx="2889360" cy="3047760"/>
            </a:xfrm>
            <a:custGeom>
              <a:avLst/>
              <a:gdLst>
                <a:gd name="textAreaLeft" fmla="*/ 288000 w 2889360"/>
                <a:gd name="textAreaRight" fmla="*/ 2601360 w 2889360"/>
                <a:gd name="textAreaTop" fmla="*/ 1742760 h 3047760"/>
                <a:gd name="textAreaBottom" fmla="*/ 261288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6480" y="6171"/>
                  </a:lnTo>
                  <a:lnTo>
                    <a:pt x="8640" y="6171"/>
                  </a:lnTo>
                  <a:lnTo>
                    <a:pt x="8640" y="12343"/>
                  </a:lnTo>
                  <a:lnTo>
                    <a:pt x="4320" y="12343"/>
                  </a:lnTo>
                  <a:lnTo>
                    <a:pt x="4320" y="9257"/>
                  </a:lnTo>
                  <a:lnTo>
                    <a:pt x="0" y="15429"/>
                  </a:lnTo>
                  <a:lnTo>
                    <a:pt x="4320" y="21600"/>
                  </a:lnTo>
                  <a:lnTo>
                    <a:pt x="4320" y="18514"/>
                  </a:lnTo>
                  <a:lnTo>
                    <a:pt x="17280" y="18514"/>
                  </a:lnTo>
                  <a:lnTo>
                    <a:pt x="17280" y="21600"/>
                  </a:lnTo>
                  <a:lnTo>
                    <a:pt x="21600" y="15429"/>
                  </a:lnTo>
                  <a:lnTo>
                    <a:pt x="17280" y="9257"/>
                  </a:lnTo>
                  <a:lnTo>
                    <a:pt x="17280" y="12343"/>
                  </a:lnTo>
                  <a:lnTo>
                    <a:pt x="12960" y="12343"/>
                  </a:lnTo>
                  <a:lnTo>
                    <a:pt x="12960" y="6171"/>
                  </a:lnTo>
                  <a:lnTo>
                    <a:pt x="15120" y="6171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0"/>
            <p:cNvSpPr/>
            <p:nvPr/>
          </p:nvSpPr>
          <p:spPr>
            <a:xfrm>
              <a:off x="4158000" y="5155920"/>
              <a:ext cx="1824480" cy="368280"/>
            </a:xfrm>
            <a:prstGeom prst="rect">
              <a:avLst/>
            </a:prstGeom>
            <a:solidFill>
              <a:srgbClr val="dce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omic Sans MS"/>
                </a:rPr>
                <a:t>EQUILIB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Picture 11" descr=""/>
          <p:cNvPicPr/>
          <p:nvPr/>
        </p:nvPicPr>
        <p:blipFill>
          <a:blip r:embed="rId2"/>
          <a:stretch/>
        </p:blipFill>
        <p:spPr>
          <a:xfrm>
            <a:off x="271440" y="4653000"/>
            <a:ext cx="2682720" cy="184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31F7-2DEC-4EF8-A546-FE7F6AAA296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42680" y="3049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Indicadores no financie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8750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Indicadores que miden la clientela y la fuerza de ventas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Cantidad de veces que las patentes posteriores se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refieren a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la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origi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Cantidad de licencias otorgadas con esa patente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Esfuerzo de ventas sobre Ventas de nuevos producto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Clientes nuevos sobre total clie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Indicadores de posición competi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Indicador de eficacia competitiva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  <a:ea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N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  <a:ea typeface="Arial"/>
              </a:rPr>
              <a:t>ú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mero de visitas de clientes a una pagina WEB en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  <a:ea typeface="Arial"/>
              </a:rPr>
              <a:t>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articu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Muestreos estadísticos a través de la WEB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Cuota de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mercado.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A973-9BE8-4DFF-A980-4DBA51E55F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Indicadores no financie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0" y="1676520"/>
            <a:ext cx="9906120" cy="56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ahoma"/>
              </a:rPr>
              <a:t>Indicadores de la calidad de servicio brindado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Reclamos por deterioros sobre unidades entreg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Reclamos servicios postventa sobre servicios postventa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realiz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Unidades devueltas sobre unidades vend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Tiempo de la garantía que ofrece el producto o servicio con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respecto a su funcionamiento o ejec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Reclamos postventa realizados por los clientes, clasificados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or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u natural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Grado de satisfacción del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B4F-107A-40E4-A7E5-A53545F962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AR" sz="3600" spc="-1" strike="noStrike">
                <a:solidFill>
                  <a:srgbClr val="000000"/>
                </a:solidFill>
                <a:latin typeface="Comic Sans MS"/>
              </a:rPr>
              <a:t>Conclusion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99061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2570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Es incesante la búsqueda de elementos que nos sirvan para reforzar la necesidad de aumentar la información generada por el sistema contab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0" indent="-2570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La contabilidad patrimonial o financiera se refiere a la preparación de estados contables destinados a satisfacer necesidades de información de usuarios tipo y en este contexto deberá estimar y reconocer costos medioambientales, subvenciones recibidas, activos y pasivos relacionados con su conducta, entre otr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0" indent="-2570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 información que se suministra en los estados contables se refiere al  pasado del 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0" indent="-2570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s posible que los distintos usuarios deseen conocer la situación del ente en el futuro y esto nos llevaría a elaborar información contable proyecta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0" indent="-2570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Una correcta identificación y clasificación de los hechos económicos, garantizan información contable ajustada a la realidad, confiable y adecuada para servir como sustento en la toma de decision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19F7-D5CB-4BB7-AFE8-E8F7813234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90612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Comic Sans MS"/>
              </a:rPr>
              <a:t>Contenidos</a:t>
            </a:r>
            <a:br>
              <a:rPr sz="3600"/>
            </a:br>
            <a:br>
              <a:rPr sz="3600"/>
            </a:br>
            <a:r>
              <a:rPr b="1" lang="es-AR" sz="3600" spc="-1" strike="noStrike">
                <a:solidFill>
                  <a:srgbClr val="000000"/>
                </a:solidFill>
                <a:latin typeface="Comic Sans MS"/>
              </a:rPr>
              <a:t>Visión actual de la Contabilidad y la importancia de su enseñanza  en el nivel medio</a:t>
            </a:r>
            <a:br>
              <a:rPr sz="3600"/>
            </a:br>
            <a:r>
              <a:rPr b="1" lang="es-AR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3600"/>
            </a:br>
            <a:r>
              <a:rPr b="1" lang="es-AR" sz="3600" spc="-1" strike="noStrike">
                <a:solidFill>
                  <a:srgbClr val="000000"/>
                </a:solidFill>
                <a:latin typeface="Comic Sans MS"/>
              </a:rPr>
              <a:t>Contabilidad de gestión o gerencial </a:t>
            </a:r>
            <a:br>
              <a:rPr sz="3600"/>
            </a:br>
            <a:br>
              <a:rPr sz="3600"/>
            </a:br>
            <a:r>
              <a:rPr b="1" lang="es-AR" sz="3600" spc="-1" strike="noStrike">
                <a:solidFill>
                  <a:srgbClr val="000000"/>
                </a:solidFill>
                <a:latin typeface="Comic Sans MS"/>
              </a:rPr>
              <a:t>Estrategias didácticas a implementar </a:t>
            </a:r>
            <a:br>
              <a:rPr sz="3600"/>
            </a:br>
            <a:br>
              <a:rPr sz="3600"/>
            </a:br>
            <a:r>
              <a:rPr b="1" lang="es-AR" sz="3600" spc="-1" strike="noStrike">
                <a:solidFill>
                  <a:srgbClr val="000000"/>
                </a:solidFill>
                <a:latin typeface="Comic Sans MS"/>
              </a:rPr>
              <a:t>Desarrollo de casos prácticos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 rot="10800000">
            <a:off x="1485360" y="5638320"/>
            <a:ext cx="6933960" cy="5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8D66-3756-4E74-98CA-88DDA86537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Comic Sans MS"/>
              </a:rPr>
              <a:t>Organizaciones - Elementos que la compone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3840" y="999720"/>
            <a:ext cx="9602640" cy="55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ahoma"/>
              </a:rPr>
              <a:t>Eleme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2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2440" indent="-82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Una o más personas o grupos de personas físicas y/o jurídic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2440" indent="-82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Objetivos y metas comunes sociales o económ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2440" indent="-82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Acción administra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2440" indent="-82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Recursos materiales o económicos y/o human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2440" indent="-82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El o los propietarios difieren del ente u organiz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2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2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ahoma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2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2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Sistem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ocial 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conformad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por una o varios individuos o grupos de personas que persiguen metas u objetivos en común. Cuentan con recursos propios o ajenos para lograr esos objetivos que deben ser administrados, interactuando en un contexto que pueden o no contro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C391-3930-4CAF-BF0F-6DAF63B892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93320" y="404640"/>
            <a:ext cx="9712440" cy="645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Conceptos a tener en cuenta por la organización para lograr l</a:t>
            </a: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a maximización del valor actual del capital propio inverti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FE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FICA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FICIE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PRODUCTIVIDAD</a:t>
            </a:r>
            <a:r>
              <a:rPr b="1" lang="es-ES_tradnl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ADAPTABI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428760" y="1989000"/>
            <a:ext cx="2320920" cy="27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4320-C960-4490-8A1F-0BC62563A3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1880" y="-360"/>
            <a:ext cx="66452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Patrimon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7800" y="260280"/>
            <a:ext cx="88329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La organizació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Necesi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Recursos económ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Recur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Fuentes de financi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de terce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prop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u2_t4_10"/>
          <p:cNvPicPr/>
          <p:nvPr/>
        </p:nvPicPr>
        <p:blipFill>
          <a:blip r:embed="rId2"/>
          <a:stretch/>
        </p:blipFill>
        <p:spPr>
          <a:xfrm>
            <a:off x="6122880" y="1052640"/>
            <a:ext cx="2497320" cy="2066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000285531"/>
          <p:cNvPicPr/>
          <p:nvPr/>
        </p:nvPicPr>
        <p:blipFill>
          <a:blip r:embed="rId3"/>
          <a:stretch/>
        </p:blipFill>
        <p:spPr>
          <a:xfrm>
            <a:off x="6319800" y="4019400"/>
            <a:ext cx="2293920" cy="189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C679-DF02-4BE4-B608-A8AACFD4F2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Organización comercial- Ciclo opera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Diagram 3"/>
          <p:cNvGrpSpPr/>
          <p:nvPr/>
        </p:nvGrpSpPr>
        <p:grpSpPr>
          <a:xfrm>
            <a:off x="2511000" y="1418760"/>
            <a:ext cx="5117040" cy="4163040"/>
            <a:chOff x="2511000" y="1418760"/>
            <a:chExt cx="5117040" cy="4163040"/>
          </a:xfrm>
        </p:grpSpPr>
        <p:sp>
          <p:nvSpPr>
            <p:cNvPr id="107" name="_s1028"/>
            <p:cNvSpPr/>
            <p:nvPr/>
          </p:nvSpPr>
          <p:spPr>
            <a:xfrm>
              <a:off x="2511000" y="1419120"/>
              <a:ext cx="5117040" cy="416268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29"/>
            <p:cNvSpPr/>
            <p:nvPr/>
          </p:nvSpPr>
          <p:spPr>
            <a:xfrm rot="5400000">
              <a:off x="2988000" y="941760"/>
              <a:ext cx="4162680" cy="511704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0"/>
            <p:cNvSpPr/>
            <p:nvPr/>
          </p:nvSpPr>
          <p:spPr>
            <a:xfrm rot="10800000">
              <a:off x="2511000" y="1418760"/>
              <a:ext cx="5117040" cy="416268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1"/>
            <p:cNvSpPr/>
            <p:nvPr/>
          </p:nvSpPr>
          <p:spPr>
            <a:xfrm rot="16200000">
              <a:off x="2988000" y="941400"/>
              <a:ext cx="4162680" cy="511704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2"/>
            <p:cNvSpPr/>
            <p:nvPr/>
          </p:nvSpPr>
          <p:spPr>
            <a:xfrm>
              <a:off x="5995440" y="1679040"/>
              <a:ext cx="131076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600" bIns="306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PA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2834280" y="4255200"/>
              <a:ext cx="131076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600" bIns="306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COBR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4"/>
            <p:cNvSpPr/>
            <p:nvPr/>
          </p:nvSpPr>
          <p:spPr>
            <a:xfrm>
              <a:off x="2830320" y="1681920"/>
              <a:ext cx="13107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600" bIns="306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COMPR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5"/>
            <p:cNvSpPr/>
            <p:nvPr/>
          </p:nvSpPr>
          <p:spPr>
            <a:xfrm>
              <a:off x="5997600" y="4252320"/>
              <a:ext cx="13107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600" bIns="306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V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13"/>
          <p:cNvSpPr/>
          <p:nvPr/>
        </p:nvSpPr>
        <p:spPr>
          <a:xfrm>
            <a:off x="0" y="573264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Organización industrial  además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793-346E-4DB9-8439-C080B3CC69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l sistema de información como una estructura piramid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330120" y="1676520"/>
            <a:ext cx="9328320" cy="47242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1155600" y="5562720"/>
            <a:ext cx="767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2311560" y="4495680"/>
            <a:ext cx="553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384720" y="3352680"/>
            <a:ext cx="32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705120" y="1844640"/>
            <a:ext cx="2808360" cy="131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SIG para la planificación de políticas y toma de deci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971800" y="3429000"/>
            <a:ext cx="4044960" cy="10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Información administrativa para la planificación táctica y la toma de deci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146320" y="4572000"/>
            <a:ext cx="5861160" cy="703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Información administrativa para la planificación operacional, la toma de decisiones y e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155600" y="5867280"/>
            <a:ext cx="767736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rocesamiento de transacciones. Respuestas a pregu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9E4-72E0-4CCD-957E-42C37145EC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188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Usuarios de la Información Con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160"/>
          <p:cNvSpPr/>
          <p:nvPr/>
        </p:nvSpPr>
        <p:spPr>
          <a:xfrm>
            <a:off x="6480000" y="1093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1"/>
          <p:cNvSpPr/>
          <p:nvPr/>
        </p:nvSpPr>
        <p:spPr>
          <a:xfrm>
            <a:off x="6480000" y="1147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3"/>
          <p:cNvSpPr/>
          <p:nvPr/>
        </p:nvSpPr>
        <p:spPr>
          <a:xfrm>
            <a:off x="6497640" y="1201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80"/>
          <p:cNvSpPr/>
          <p:nvPr/>
        </p:nvSpPr>
        <p:spPr>
          <a:xfrm>
            <a:off x="6480000" y="1038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81"/>
          <p:cNvSpPr/>
          <p:nvPr/>
        </p:nvSpPr>
        <p:spPr>
          <a:xfrm>
            <a:off x="6480000" y="1093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23"/>
          <p:cNvSpPr/>
          <p:nvPr/>
        </p:nvSpPr>
        <p:spPr>
          <a:xfrm>
            <a:off x="6480000" y="1257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4"/>
          <p:cNvSpPr/>
          <p:nvPr/>
        </p:nvSpPr>
        <p:spPr>
          <a:xfrm>
            <a:off x="6480000" y="1312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5"/>
          <p:cNvSpPr/>
          <p:nvPr/>
        </p:nvSpPr>
        <p:spPr>
          <a:xfrm>
            <a:off x="6497640" y="1312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26"/>
          <p:cNvSpPr/>
          <p:nvPr/>
        </p:nvSpPr>
        <p:spPr>
          <a:xfrm>
            <a:off x="6497640" y="1366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65"/>
          <p:cNvSpPr/>
          <p:nvPr/>
        </p:nvSpPr>
        <p:spPr>
          <a:xfrm>
            <a:off x="6480000" y="157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67"/>
          <p:cNvSpPr/>
          <p:nvPr/>
        </p:nvSpPr>
        <p:spPr>
          <a:xfrm>
            <a:off x="6497640" y="162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8"/>
          <p:cNvSpPr/>
          <p:nvPr/>
        </p:nvSpPr>
        <p:spPr>
          <a:xfrm>
            <a:off x="6497640" y="1703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82"/>
          <p:cNvSpPr/>
          <p:nvPr/>
        </p:nvSpPr>
        <p:spPr>
          <a:xfrm>
            <a:off x="6480000" y="1525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83"/>
          <p:cNvSpPr/>
          <p:nvPr/>
        </p:nvSpPr>
        <p:spPr>
          <a:xfrm>
            <a:off x="6480000" y="157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84"/>
          <p:cNvSpPr/>
          <p:nvPr/>
        </p:nvSpPr>
        <p:spPr>
          <a:xfrm>
            <a:off x="6497640" y="157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08"/>
          <p:cNvSpPr/>
          <p:nvPr/>
        </p:nvSpPr>
        <p:spPr>
          <a:xfrm>
            <a:off x="6497640" y="1773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41240" y="1197000"/>
          <a:ext cx="8269560" cy="5327640"/>
        </p:xfrm>
        <a:graphic>
          <a:graphicData uri="http://schemas.openxmlformats.org/drawingml/2006/table">
            <a:tbl>
              <a:tblPr/>
              <a:tblGrid>
                <a:gridCol w="2195640"/>
                <a:gridCol w="1779480"/>
                <a:gridCol w="2257560"/>
                <a:gridCol w="2036880"/>
              </a:tblGrid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Clasific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Tipo de usu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Usu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1. Por su vinculación con el en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Usuarios inter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600" spc="-1" strike="noStrike">
                          <a:solidFill>
                            <a:srgbClr val="cc0000"/>
                          </a:solidFill>
                          <a:latin typeface="Tahoma"/>
                          <a:ea typeface="MS Mincho"/>
                        </a:rPr>
                        <a:t>Inversores propiet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Administr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Dirección sup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Nivel interme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Nivel oper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Usuarios exter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600" spc="-1" strike="noStrike">
                          <a:solidFill>
                            <a:srgbClr val="cc0000"/>
                          </a:solidFill>
                          <a:latin typeface="Tahoma"/>
                          <a:ea typeface="MS Mincho"/>
                        </a:rPr>
                        <a:t>Inversores especula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600" spc="-1" strike="noStrike">
                          <a:solidFill>
                            <a:srgbClr val="cc0000"/>
                          </a:solidFill>
                          <a:latin typeface="Tahoma"/>
                          <a:ea typeface="MS Mincho"/>
                        </a:rPr>
                        <a:t>Inversores ahorris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Provee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Clientes, prestamistas,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600" spc="-1" strike="noStrike">
                          <a:solidFill>
                            <a:srgbClr val="cc0000"/>
                          </a:solidFill>
                          <a:latin typeface="Tahoma"/>
                          <a:ea typeface="MS Mincho"/>
                        </a:rPr>
                        <a:t>Potenciales compr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1960-38F0-4CB2-8FB9-8EA240D668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4:29:42Z</dcterms:created>
  <dc:creator>notebook</dc:creator>
  <dc:description/>
  <dc:language>en-US</dc:language>
  <cp:lastModifiedBy>mcalvarez</cp:lastModifiedBy>
  <dcterms:modified xsi:type="dcterms:W3CDTF">2011-08-19T21:21:56Z</dcterms:modified>
  <cp:revision>64</cp:revision>
  <dc:subject/>
  <dc:title>Visión actual de la Contabilidad y la importancia de su enseñanza  en el nivel medio   Contabilidad de gestión o gerencial Estrategias didácticas a implementar.  Desarrollo de casos prácticos.</dc:title>
</cp:coreProperties>
</file>